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D13-8AD3-4212-97F2-CAE13F70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093-806F-4292-ADD0-58DA6AB4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7CF-7B7A-4AB1-85A5-0D854D79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DFA-CF49-4456-9C96-FFFD1DB8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D06D-7F27-4024-A682-A91761F5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FAD-FBBB-4FA8-8938-069133B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B510-11B9-4266-8F96-59060370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23B-8689-49A7-9CBD-E1C6EC6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8BF4-BF3B-40A4-9ACE-CD892D30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FCDD-0FB2-4DEB-87A5-447DBBB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2C1-02A7-4CFB-8D7F-769CEF3E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E32-3700-479A-9479-4CAC721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61E-ACFC-4FF9-B479-7481E49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5321-F921-4F90-AF28-A2AA4F0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F88A-96C5-44D1-A1EF-EAAE3C0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137-3B88-4018-ABF0-02BF6568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86D2-947E-4A74-A732-1C1A9CF5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6BA-61DC-43A2-94B6-40830D0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F6D-2E56-484E-9A0C-35F2C38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D38-9678-478A-BC7B-A80A6B94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A55-B223-45AF-A9EA-FAB581B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64E-3F9E-4508-9C99-B578238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C7A-AFFF-499B-A8E1-BCBC11F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B77-B3A0-481F-8D94-03BE87E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D8E-DABB-4381-8B15-B45096DC7AB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458-072E-44ED-92AD-696F8DFC75D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upreme Court at 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483876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in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st decisions are accompanied by a written opinion explaining the justices’ decis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Opinion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jor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urring-agree with majority but for different reas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nting-oppose the major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nanimous-all of the justices agr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supreme court building"/>
          <p:cNvPicPr/>
          <p:nvPr/>
        </p:nvPicPr>
        <p:blipFill>
          <a:blip r:embed="rId1"/>
          <a:stretch/>
        </p:blipFill>
        <p:spPr>
          <a:xfrm>
            <a:off x="762120" y="4038480"/>
            <a:ext cx="7619760" cy="23558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upreme Court conducts business from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Octob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until the follow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June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known as the October Ter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S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upreme Court can extend its session into July if there is a very significant case that needs to be hear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example of this was the Supreme Court case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U.S. v. Nix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8940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urt in S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 the first two weeks of each month the court is in sess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uring this time Justice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hear oral arguments in each ca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discuss and vote on ca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nounce what cases they    have decided to he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urt in Rec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uring the two weeks of recess the justices do most of their wor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uring this time the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cide which cases to he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search cas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opinions on cases from the previous sess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also use this time to read the briefs (written arguments) for upcoming cas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iding Which Cases to He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stices review a list of possible ca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t least 4 justices must vote for the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cepted cases are placed on the docket (schedul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cases reach th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st appeals reach the court by a request for a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writ of certiorar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writ directs the lower court to send its records on a cas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entrance%20to%20the%20court"/>
          <p:cNvPicPr/>
          <p:nvPr/>
        </p:nvPicPr>
        <p:blipFill>
          <a:blip r:embed="rId1"/>
          <a:stretch/>
        </p:blipFill>
        <p:spPr>
          <a:xfrm>
            <a:off x="3505320" y="4267080"/>
            <a:ext cx="16383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stices meet privately on Wednesdays and Fridays to discuss and vote on each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hief justice asks each associate justice to give his or her opinion in each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vote is tak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jority vote is requi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re is a tie vote the lower courts decision stan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2530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0:03:39Z</dcterms:created>
  <dc:creator>Sys Admin</dc:creator>
  <dc:description/>
  <dc:language>en-US</dc:language>
  <cp:lastModifiedBy>SysAdmin</cp:lastModifiedBy>
  <dcterms:modified xsi:type="dcterms:W3CDTF">2011-10-07T11:52:36Z</dcterms:modified>
  <cp:revision>26</cp:revision>
  <dc:subject/>
  <dc:title>The Court at Work</dc:title>
</cp:coreProperties>
</file>